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78794"/>
        <c:axId val="82935031"/>
      </c:barChart>
      <c:catAx>
        <c:axId val="44578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35031"/>
        <c:crosses val="autoZero"/>
        <c:auto val="1"/>
        <c:lblAlgn val="ctr"/>
        <c:lblOffset val="100"/>
        <c:noMultiLvlLbl val="0"/>
      </c:catAx>
      <c:valAx>
        <c:axId val="82935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78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B38-5C1B-44B8-A702-8F72606C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E57-2C0E-493C-BEEF-E4447C4C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EBD-B4FB-4ECA-9470-93664E9F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D9F-36AC-45B8-8625-B11C60CC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0A4-1BF7-48C7-A27C-180F0850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46F-4794-47A8-98CB-0E9BA838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C82-1815-4B8D-A436-FE6B4A54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2AB-16DD-4DC3-A100-F45E5D55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C2E-B383-49EA-B6EF-40B656EF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D11-22A2-4FAB-8ADF-0B691402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6E0-00B4-48DE-85B4-87B19E3B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C09-A568-440E-9462-57CF6B95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D3935-B49F-424F-A9B4-666EF341A3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