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13495"/>
        <c:axId val="18643030"/>
      </c:barChart>
      <c:catAx>
        <c:axId val="47613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43030"/>
        <c:crosses val="autoZero"/>
        <c:auto val="1"/>
        <c:lblAlgn val="ctr"/>
        <c:lblOffset val="100"/>
        <c:noMultiLvlLbl val="0"/>
      </c:catAx>
      <c:valAx>
        <c:axId val="18643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13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A5A-B683-42B2-B5C1-66E17422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692-8E0C-49E0-B7D8-7C2C6A0D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DE7B-3BE2-4725-9C51-D0ECC0EC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4D3-6F77-470C-8C45-1AB1C1F5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E7B-5E56-49D7-A331-6FF41345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626-81E6-4C6D-BB40-350D89A7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C45-68BF-435D-8369-64398D75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723-7A7C-46F7-965B-52072CE1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242-994A-44BE-9C59-A467ACEA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194-F064-4A54-B270-65A55631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562-CD74-4564-BDA4-B7241A18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117-F21C-4B34-BF4E-B14B2B05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75386-A26D-4A60-BCDD-F5B221E4E6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