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600C8E-292E-4449-91EA-715A6738C9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74F005-26B6-4314-A6E3-A345686F12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865052-59BD-454B-B979-726AA0426B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68331F-EF3F-4FC6-805C-44988D58F52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094ECB-F671-4BE7-88AD-FF41618AD65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F14E51-3BBC-41A0-B549-D4CD739B9D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0802DB-FE57-4433-AF81-0437EAC3B8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6CF25C-93D4-4DD8-9EFD-2C84AC4B37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347583-6218-4039-9477-2A38BCD174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E7B8CF-51A9-4EA6-93D8-A2E7C7D418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20B9B4-9B74-4342-852E-292B077F79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C71722-C05F-4697-985D-C3534F2EB2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DB49B-BDBE-4CE5-9DBF-62979F7C36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254160" y="2349360"/>
            <a:ext cx="380880" cy="609840"/>
            <a:chOff x="254160" y="2349360"/>
            <a:chExt cx="380880" cy="609840"/>
          </a:xfrm>
        </p:grpSpPr>
        <p:sp>
          <p:nvSpPr>
            <p:cNvPr id="41" name=""/>
            <p:cNvSpPr/>
            <p:nvPr/>
          </p:nvSpPr>
          <p:spPr>
            <a:xfrm>
              <a:off x="349200" y="234936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444600" y="252360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0168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4460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54160" y="2654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371600" y="2133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97160" y="220968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71880" y="23749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816200" y="29113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362400" y="3619440"/>
            <a:ext cx="358560" cy="72252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250920" y="3659040"/>
            <a:ext cx="380880" cy="609840"/>
            <a:chOff x="250920" y="36590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345960" y="36590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41360" y="38332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29844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4136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50920" y="39639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93920" y="34290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32080" y="35053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71880" y="36194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816200" y="4218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362400" y="2387520"/>
            <a:ext cx="358560" cy="722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755800" y="2590920"/>
            <a:ext cx="55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78136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3200" y="3886200"/>
            <a:ext cx="698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2057400"/>
            <a:ext cx="53316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43480" y="4510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3352680" y="5056200"/>
            <a:ext cx="381240" cy="609120"/>
            <a:chOff x="3352680" y="5056200"/>
            <a:chExt cx="381240" cy="609120"/>
          </a:xfrm>
        </p:grpSpPr>
        <p:sp>
          <p:nvSpPr>
            <p:cNvPr id="69" name=""/>
            <p:cNvSpPr/>
            <p:nvPr/>
          </p:nvSpPr>
          <p:spPr>
            <a:xfrm>
              <a:off x="3448080" y="50562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43120" y="523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339984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4312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352680" y="53607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Document"/>
          <p:cNvSpPr/>
          <p:nvPr/>
        </p:nvSpPr>
        <p:spPr>
          <a:xfrm>
            <a:off x="1752480" y="502776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14600" y="5256360"/>
            <a:ext cx="77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14680" y="51037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797280" y="5257800"/>
            <a:ext cx="11556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20718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371600" y="29862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97160" y="4281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1300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79728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327480" y="306072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49560" y="30607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314880" y="33750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36960" y="33750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3526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4572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Absent or “Unsecured”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486400" y="2909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37160" y="2921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Document"/>
          <p:cNvSpPr/>
          <p:nvPr/>
        </p:nvSpPr>
        <p:spPr>
          <a:xfrm>
            <a:off x="6553080" y="48150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48150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52880" y="46623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5880" y="49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2666880"/>
            <a:ext cx="2895840" cy="3367080"/>
          </a:xfrm>
          <a:custGeom>
            <a:avLst/>
            <a:gdLst>
              <a:gd name="textAreaLeft" fmla="*/ 141120 w 2895840"/>
              <a:gd name="textAreaRight" fmla="*/ 2754720 w 289584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5">
                <a:moveTo>
                  <a:pt x="3600" y="0"/>
                </a:moveTo>
                <a:arcTo wR="3600" hR="3600" stAng="16200000" swAng="-5400000"/>
                <a:lnTo>
                  <a:pt x="0" y="21515"/>
                </a:lnTo>
                <a:arcTo wR="3600" hR="3600" stAng="10800000" swAng="-5400000"/>
                <a:lnTo>
                  <a:pt x="18000" y="251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969160" y="57150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76920" y="46782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400800" y="3886200"/>
            <a:ext cx="380880" cy="609120"/>
            <a:chOff x="6400800" y="3886200"/>
            <a:chExt cx="380880" cy="609120"/>
          </a:xfrm>
        </p:grpSpPr>
        <p:sp>
          <p:nvSpPr>
            <p:cNvPr id="99" name=""/>
            <p:cNvSpPr/>
            <p:nvPr/>
          </p:nvSpPr>
          <p:spPr>
            <a:xfrm>
              <a:off x="6495840" y="388620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591240" y="406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44832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59124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00800" y="4190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 flipH="1" flipV="1">
            <a:off x="6121080" y="3695400"/>
            <a:ext cx="25380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70400" y="5145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931000" y="34290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76244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52880" y="5195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0" y="350532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0" y="3581280"/>
            <a:ext cx="129528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6781680" y="4241520"/>
            <a:ext cx="330480" cy="57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32004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43200" y="5791320"/>
            <a:ext cx="1676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1981080"/>
            <a:ext cx="144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18120" y="2527200"/>
            <a:ext cx="0" cy="8128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Document"/>
          <p:cNvSpPr/>
          <p:nvPr/>
        </p:nvSpPr>
        <p:spPr>
          <a:xfrm>
            <a:off x="8153280" y="4724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153280" y="4749840"/>
            <a:ext cx="67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8153280" y="28195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115480" y="289548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Document"/>
          <p:cNvSpPr/>
          <p:nvPr/>
        </p:nvSpPr>
        <p:spPr>
          <a:xfrm>
            <a:off x="8153280" y="38098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115480" y="38862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47Z</dcterms:modified>
  <cp:revision>154</cp:revision>
  <dc:subject/>
  <dc:title>Slide 1</dc:title>
</cp:coreProperties>
</file>