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255C8-66CC-48B4-B4E6-B3DE8535D2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er: Your license is on the C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Upgrading from an installation without monitoring to one which has monitoring is currently a pain. We will look at making this easier but currently if you are entitled to monitoring you should make sure to install a monitoring capable license. The upgrade from the evaluation with monitoring to a full license is easy, just drop in the new license file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usually a problem since you’re Server will normally be talking to agents on other machines, really just an issue for demo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ly obvious because agent holds a reference to the servers 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only way to correct this is to update the agent.properties file on each agent platform and set “agent.setup.serverIP” to the new IP of the server.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form.fqdn can be any string, just look less out of place when it is normal domain name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 through on the slide, then at the end there will be time to do the actual install and config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hoose Complete or Custom (just make sure to install Server, Agent and CL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Default Installation Settings, the interview takes a long time and the defaults are fine for this exerc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ail server domain, you must change it but doesn’t need to be valid for this exercise, just use localho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this out of the way ear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be worried if you see JBN rather JON during ins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’ve rebranded our materials to JON and the next version (1.2Final) of the software will match that to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install yet! There will be time at 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for production – you can install this on laptops for demo/testing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wnload and run setup.sh –full as a non root u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need root access during ins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so have an Agent-Only installer (not on the CD!) which is smaller and is for installation on your separate agent plat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change ports or DB’s is available, we will just be installing with defaul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ly with UNIX, we have an Agent-Only installer for your agent platforms running the Windows OS (again, this is NOT on the CD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key sub-direc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traightfor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E6FED956-DD77-4B9E-8016-09BB5E4B2DEB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4680"/>
            <a:ext cx="1550880" cy="951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hyperlink" Target="http://localhost:7080/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stallation and Configur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Boss Operations Network distribu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allation and Configu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unning (Windows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26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Windows installer configures services that are automatically started when Windows sta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installer starts these services immediately after installation and points a browser at the conso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57480" y="3733920"/>
            <a:ext cx="662940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itial auto-discovery sca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010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agent will perform an initial auto-discovery upon startu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ON supports manag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3.2.x and 4.x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mcat 4.0.x, 4.1.x, 5.0.x, 5.5.x 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ache 1.3.x and 2.x 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1744560" y="5105520"/>
            <a:ext cx="565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mcat and Apache require further configuration so JON can monitor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the Licens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001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ly the server uses the license file for execution. Agents run without a license fil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server license can be obtained from the JBoss Customer Support Port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85800" y="4038480"/>
            <a:ext cx="784872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the License (con’d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0880" y="2971800"/>
            <a:ext cx="6324840" cy="1247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590920" y="4267080"/>
            <a:ext cx="6095880" cy="19432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ow that the Server is started, login to see the main home pag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http://localhost:7080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pload the license to the JON Server using its Console GUI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cense upload page appears after you log into the GU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4800600"/>
            <a:ext cx="2300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 message like this will appear after you upload a valid license that you received from the Customer Support Por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mport initial auto-discovery sc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Dashboard will show you what has been auto-discovered (give it a minute!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lect the resources you want to mana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he “Import” button to tell the server, “Yes, I want to manage these resources that have been discovered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ou will notice that the server and agent will be auto-discover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s means you can manage/monitor the JON distribution itself!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7796160" cy="32083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sults of initial auto-discover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990720" y="2514600"/>
            <a:ext cx="4437000" cy="9144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1066680" y="3809520"/>
            <a:ext cx="4343400" cy="6858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-720" y="2362320"/>
            <a:ext cx="100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Ag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-1080" y="43434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3352680"/>
            <a:ext cx="4286160" cy="2667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29718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ey! It found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 Apach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eb Server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666880" y="4266720"/>
            <a:ext cx="2819520" cy="16002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76760" y="5867280"/>
            <a:ext cx="537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lick me to import these auto-discovered servers into JON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185840"/>
            <a:ext cx="82155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 order for the initial import of resources into the JON Server to succeed, the JON Server must have a working network connectio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 for the lab make sure your WiFi is working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befor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beginning the install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s issue will be fixed in the next vers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5080" y="137160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ce the JON server is deployed and inventoried, changing the IP address of the machine it is running on will cause failures when the agents try to conn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blems mostly seen on laptop install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since laptops frequently change ip’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ull-install on Windows will default hostname for agent and server to localhost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t if installing on Unix make sure to answer as follows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is the JON Server IP address: 127.0.0.1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IP should the JON server use to contact the agent: 127.0.0.1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the name of the platform changes the JON Server will try to re-discover all the servers on the platform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atform name changes often occur due to DNS changes. Again most common for laptops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vent this problem by adding an entry to agent.properties fil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atform.fqdn=machinename.company.co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5080" y="1295280"/>
            <a:ext cx="800100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ON Server and Agents available for Windows and Unix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 for either Server and/or Agen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ce started Agents will begin sending data to the Server immediatel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a the Server’s Portal interface, discovered resources can be imported and brought under managem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447920"/>
            <a:ext cx="800100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unning the instal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itial configur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 the full distribution including server, agent and client shel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 sure you have an network connec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 sure to specify server and agent hostname/ip as localhost/127.0.0.1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fter install has completed updat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JBN 1.2.8/agent-jboss-1.2.8/agent.properti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47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o include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platform.fqdn=machine.yourcompany.co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start the ag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pload license to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mport your initial auto-discovered serv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brand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d to be called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Network Enterprise Manager, also known 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N EM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w called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, also known 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oss 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JBoss Operations Network (JON) distribution consists of two par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engine that drives it al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Interactive GUI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g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n agent is deployed on each operating system that is to be monitore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erequisit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agement Server Require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mall server (1-5 platforms, 5-15 server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x1GHZ x86 or 1x450MHZ spa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512MB RA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Stor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dium server (6-25 platform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x2GHZ x86 or 2x450MHZ spa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RA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Stor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se are recommended for production systems, but you can install the server on less powerful laptops for demo and testing purpos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(Unix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440" y="1185480"/>
            <a:ext cx="8015040" cy="50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install the Server (and/or Agent and/or client shell), download the appropriate installation package for your platform and follow the installation script’s promp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basic installation can be performed by executing “setup.sh –full” and choosing the server, agent and shel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all script cannot be run as root however, you must have root access to run another script the installer asks you to run [got it?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s second script is called “tune-os.sh” and is only required on some platforms (e.g. Linux but not Windows). It sets some kernel parameters necessary to run the server properl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n agent-only installer is availabl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 (Windows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o install the Server (and/or Agent and/or client shell) on Windows, download the full windows installer program and run it as desire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dvanced installation will allow you to alter default po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database settings can be chosen from an existing Oracle or PostgreSQL installation or the default embedded PostgreSQL choi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2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JBoss ON also has an agent-only installer availab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ed Fil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762120" y="1295280"/>
            <a:ext cx="7086600" cy="4953240"/>
            <a:chOff x="762120" y="1295280"/>
            <a:chExt cx="7086600" cy="4953240"/>
          </a:xfrm>
        </p:grpSpPr>
        <p:pic>
          <p:nvPicPr>
            <p:cNvPr id="106" name="" descr=""/>
            <p:cNvPicPr/>
            <p:nvPr/>
          </p:nvPicPr>
          <p:blipFill>
            <a:blip r:embed="rId1"/>
            <a:stretch/>
          </p:blipFill>
          <p:spPr>
            <a:xfrm>
              <a:off x="762120" y="1295280"/>
              <a:ext cx="2200320" cy="495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3886200" y="1523880"/>
              <a:ext cx="3962520" cy="762120"/>
            </a:xfrm>
            <a:prstGeom prst="borderCallout1">
              <a:avLst>
                <a:gd name="adj1" fmla="val 18750"/>
                <a:gd name="adj2" fmla="val -8333"/>
                <a:gd name="adj3" fmla="val -11875"/>
                <a:gd name="adj4" fmla="val -48837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is is the directory given to the installer as the location where the JON distribution should be install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86200" y="2590920"/>
              <a:ext cx="114300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58611"/>
                <a:gd name="adj5" fmla="val -298958"/>
                <a:gd name="adj6" fmla="val -112500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Ag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3505320"/>
              <a:ext cx="114300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50694"/>
                <a:gd name="adj5" fmla="val 121356"/>
                <a:gd name="adj6" fmla="val -105833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Ser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86200" y="4419720"/>
              <a:ext cx="152388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42814"/>
                <a:gd name="adj5" fmla="val 393750"/>
                <a:gd name="adj6" fmla="val -90000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Client Shel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unning (Unix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rv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server can be started with: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jbn-server.sh 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gent is started with: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jbn-agent.sh 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John Mazzitelli</cp:lastModifiedBy>
  <dcterms:modified xsi:type="dcterms:W3CDTF">2006-01-20T18:53:41Z</dcterms:modified>
  <cp:revision>93</cp:revision>
  <dc:subject/>
  <dc:title>JBN Enterprise Management</dc:title>
</cp:coreProperties>
</file>