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6C934E-CE5E-4436-AB3B-CC56BA6CC2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8ED6FE-3029-4B9E-90E4-71408665F7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FE568E-83B4-48A8-AF93-881F0DD51B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1B53A0-AD5A-4C26-ACA4-563256EA20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10829CF-21A9-4871-986B-8708EB28848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309A08-BD1A-4ADA-8B7F-6AC3A354E6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F91964-AF6F-4FDB-962E-25AB68AE26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3794C1-A897-485D-AA10-B2FECFFFDE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1F4BDC-C651-4882-8249-9F1C545F4F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C40DDF-90B3-4758-AB11-A4349C32F4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52BF6D-ED49-4B2F-9385-E100191FE6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33555F-C6AC-4776-B1BF-F8F2B43567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A6FC16-ADD1-4126-B966-A589DF6F26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E18DE1-4DFF-4A0F-B805-0366C58E70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837408-F5C2-484A-8192-46F10CDB81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FE96306-018C-49AB-B28C-FB053924CD8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8165A69-1EBB-424F-AD2B-CB5F5EA81B2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D088C1-38C5-45D4-A9D6-2758E77BAE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7129DA-A34F-4C03-BE8C-F09B44F03F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F06F57-A61F-491A-A22A-148CED64F7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60AC06-0CD5-4E00-80AD-DEEAD78D24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7F43E3-5020-41B2-B7DE-CBF0ED712C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3F2619-22A2-41DD-8393-C2E84F4129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2E72BC-5B5F-4237-A8E5-B004D411E9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C49F50-B1C6-4495-8F99-461AF4FFD8D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4E642B-86C0-487D-B5F4-609A394F3BF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8C379AE-4E94-4C61-B6FC-E80D307B655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05B88D7-5F66-4EED-993F-DF3701A141DF}"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FB8ED8-03E0-4958-BDF2-0566413BFCC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3FAA69-4441-4F36-A489-D5C69343715E}"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0C8715-0AC4-4025-A0D3-F258C42AD56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3E9861-7092-4159-9919-52F705C90F13}"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25631B-A55F-468D-947C-A3D3B25EF8BE}"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6DFC73-994B-4FBE-910C-0825BB9AF63A}"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21913F-16FA-4805-9CEB-98462FFC80D4}"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276281-45FE-4147-BA82-FCF40FA70CB5}"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588710-FF7A-4C28-BA42-82B7BCE3424B}"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69A2F6-C7B5-4868-A997-FD1DA7E7F426}"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A52B5A-5DB9-4CDB-83C7-13008DE56EFA}"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755CF3-A4BB-4C7F-8702-59113DD63427}"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DD0D67-F189-46A0-84D4-BC4FCCD6D65E}"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6423DC-3D2E-4229-9C4E-7BFC77979D3F}"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E98BD8-CBCC-4FCC-BD6D-1AC3297822B1}"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73A71E-2B77-42BD-B9E3-A00478D4B179}"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E6B2FF-5422-4069-89F2-8F56BFDC5DEF}"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34C815-C4D1-4AB4-A1DA-A791F30BE21E}"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5E2F88-BCF6-437F-9B63-895227709C67}"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FC269A-74F2-46CE-A8D0-476D2B17246A}"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F7115F-03F9-4584-9749-51130F70340A}"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0BAA72-32D4-4CB6-B10D-ABF445EB855C}"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479A1C-6A10-4027-AE71-5EB733F80973}"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218DB9-B200-46E4-8EB3-CB29454534BA}"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467F0D-E63F-4917-81A2-4FC5A8324A6F}"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183F884-940E-4ECE-BE03-12968AB79B72}"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58B2E9-AC2B-4FA6-9907-5241118368DF}"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5E3816-4D4A-4E2C-8855-CB2ADD4BD920}"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63C812-F0BD-4D8F-8ED1-2C40D62E71EF}"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148347-596A-43ED-B463-17399BED1750}"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6311F0-E385-4A62-9339-53CD22BBADE6}"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3B3FA7-EA95-4489-B63E-CA5414CE563A}"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9AE392-E291-47AD-A500-E877AD196256}"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24F421-9CA6-4AA7-918A-7FB896C05E7A}"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7E7EE0-DEE9-40B0-B777-63C579FC0ED1}"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74A2F5-0FB7-4C63-AE4A-EC7B81C74104}"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0B04FD-0579-47EE-8BA7-5710D4E8625D}"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769342-FE6E-4D00-A6A6-D545FC67E975}"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65B4DA-EF0F-4FBE-9005-CD25BACD4AB3}"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9AF198-E7B7-4DEC-ADC3-8033B3A41ED5}"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B3314C-9756-4E73-8F66-57C12084F4C5}"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35E289-D353-4B5B-92BB-405B2FCE3FAD}"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14EAE6-C9BE-44D2-BDAA-CD9AADF7B880}"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E6760E-2EF4-44CB-8DB1-816C05AF14BE}"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A17CF1-F80F-48A4-83E0-DFE49BC72938}"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0A4670-772A-4FCB-8163-9E7B7AFA953A}"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32BC302-9E68-4EEE-B9A6-BF3E53C3AFCB}"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3A581D-C656-4B52-BBCC-3CBB2F3052AB}"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5B0945-8560-4828-83F9-6518C46F4C0D}"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ABE1D98-8060-4D81-91D7-9035E41DC339}"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A58416-FBBD-44E6-907B-F01A8921DC67}"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0A884A-3F8C-4E30-89D5-14C885BD73EF}"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919C1B-90F9-4EEC-9D3D-96CDCBC6C435}"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415C04-2C36-4E15-B7F0-034D2CF31923}"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67E009-4FA0-4891-8B8A-7E77601257CA}"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11784F-A308-4524-8FEE-1222693A255D}"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FC6D60-2E93-48DB-8C8B-28CA3AC0B6B1}"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EC82285-91C5-4747-8092-C4FF537A30C5}"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BA5F95-8A84-4619-A1A2-55F6839D9DF6}"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51D39C-51D1-42C8-9470-8F42BEA4EAB5}"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996E0D-CC09-4F9C-B40B-61E035084CC0}"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F8C0A3-6044-4046-B0C8-144D5CEB1848}"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D74A8B-8E84-494D-AA1D-154074A952EE}"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5A1AA8C-68B1-481D-83B7-780AF3564ABA}"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0164F9-56BF-4B7A-A9CE-9E342602DBE9}"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484110-0270-46D4-BE0C-EEE652FE09E4}"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7B1328-84BB-436F-9148-74CD632C1AF6}"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427219-476F-47DF-BDEF-B5A6B423ABF2}"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04C360B-C02F-4C10-BA39-AC588327958E}"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D97EF3-58C1-4604-9FEB-C0E904D3AA45}"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E17F38-07EE-4E99-BB33-F24A5306A25D}"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2EBA73-C400-4EAC-BDD9-5382D69CF78D}"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E708D4-50D6-4BBD-9739-66F1F61EC18D}"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A12BC8-0080-4C51-98A2-77C4066A66A6}"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E480EC-3261-4ECC-97D9-929C8C7D7D6D}"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C6DDE40-042D-429D-A71D-13A2EB22B724}"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1E632F-4730-43E2-850C-B6D15D0BC852}"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975AB6-1D80-4CC3-BE58-E56818BB2366}"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5E8BE3-F1C9-4B66-8F15-092C872FE88B}"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BBA103F-5BD5-4AD8-BC42-0CD8831D968C}"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096F2F-1676-41FD-B1EF-90B727014810}"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563AC79-4070-445E-9CFE-97C1F977A1CE}"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8F079F-4B9B-402D-A72B-07D883768A74}"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F31B1E-6DB4-4531-BFB9-0D1B9A03079E}"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C5E8D8-04C2-4559-BAEB-C59D8D5099BC}"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BA84DC-816D-4757-B57A-06C33B97683A}"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A46E0A-ACF5-423E-AAAB-CB2180BF397B}"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EBE458-D36D-4002-B834-7B5EE4382B3E}"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8A3C71-9529-4A90-802C-261D5838B81C}"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E9091A-B3A1-4513-953F-AD85335BCE35}"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03546F-030A-4025-9CC5-4431A3EC0901}"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15250D-A055-4DDF-8610-5DADD0340DC8}"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0C47EB-B866-4434-9DFA-309536277903}"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22D650-FFA1-4CA8-90C8-A6444F9A83F3}"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4C70E0-AFB8-4D8F-A61E-2E35D9B5E71A}"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AEDE10-190E-4730-9A9E-B0A51C77BE79}"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332D32-9279-4A57-A4B8-D37CE6E6E036}"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46F385C-2DCE-4EB5-9E75-DCD3D21B5D71}"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D79B2E-0632-4D73-A6D3-E1FBA4EAB246}"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2C66F3-00AE-4ED1-9864-933F6AC634A8}"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E35528-D569-480E-9EA7-5CD0F15AA726}"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E06565-2045-4A08-B662-CEC9399765DF}"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978109-1BB1-4CC7-BF1C-A5EE3DF86F1A}"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803351-EDED-4D2F-889E-3227F60ECAF7}"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77B822-0835-47D9-A6B8-DC7839CFA299}"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F1C1E1-3FED-41DD-BD51-1D5BEC4B6D99}"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0C4ED6-9C00-45B0-94CD-7439DDB270B8}"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5DD6B4-FB0D-4498-A7C9-1099A514EEA7}"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CEFCBC-EA84-4574-8564-87D8340A3D0F}"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6D1502-D177-4E35-8223-15988A2BBBF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E7EF30-8691-42AA-A253-D45814E5BFE6}"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1A75B1-C963-43DA-B108-9A4EA237F541}"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43A5B7-E3A0-47A7-942E-EA6DAA4B64D9}"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0E320E-E849-4001-AE7E-B247EEBBD931}"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19D812-02F8-465E-B09A-66B15DAEF004}"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CA8156-DDC0-476A-B3EA-8B0F11F1129A}"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53C2A9-2745-4F2F-9C57-BD014AD07A31}"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5C32E7-0DCE-44AD-B1AC-B0D93CA010BE}"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A8500A-C978-40DD-8207-D176E65C865F}"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AF5B84-F12F-4539-9237-3D3C31D1D430}"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D24020-5E4D-4B15-AAF8-69AFF064BED8}"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F47169-2C1A-4F85-B169-B91CF825DEA8}"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31420F-F250-44BB-92A9-7B7BE1A25501}"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4B67C2-AC47-4371-905C-3B900F85D6C7}"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E58830-5240-4355-8B11-BF9A6AAA6368}"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1A88FE3-EBE9-4A19-B33F-E12C5CC500D6}"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F41DB4-B8ED-440F-A539-C29F401ABB0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8B3F1C-7C96-443E-9CF9-C942E6DF950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A6157F-3592-4AAA-9650-72E392F66A5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19F2A6-3FDB-47BF-A6DB-1FB2D791F2C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B04A26-4DFD-4324-B264-90A2D1C00E0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F83160-F656-4D43-938B-8AC31F54648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2791164-5417-41E5-8A0D-0B837519768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C5F39D-FBDA-4E80-8FD9-800DE32DC65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8A9B95-456C-4D90-9FA8-3DB0EABE9BE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3D0AE4-3E33-4F70-AE44-17E96DB6A53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18339C-A510-4D3C-BE36-80890D7F5D4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BD1BA3-34FD-4B32-9FD8-28047B6DC8B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1EF184-02F8-4498-94DA-4978334AEC2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A0FD81-91A6-4E91-8D70-289EF926195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D3E8DF-B0CA-4B02-A2BA-B7A44893299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1B1F47-91A1-4576-8C6C-5D6D93B4BEA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4E9F65-138E-4B77-9B49-A3AA05359A0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4D8743-01F2-41BE-AAFD-484DBDE971D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886631-E03E-4E2C-884F-85FA8F01197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15EF3F-2C9B-4AC9-9B2F-BA8780359A3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2C30B8-DCD8-4470-B681-BCBCCD57C1C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89255B-9C56-4571-A2CA-3C7BA95FF02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141D68-8A8A-4F9B-BC8D-4BC051DAF0C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D555F2-23BF-4C1E-919F-5CE9AE2B688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B25206-B715-4E65-B500-603BF8DC4FB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6E798D-C9CE-4880-ACC5-C1D05CE4F7E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FB6D14-A567-451D-8C68-1C9FF941040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34D80B-76C4-4CE8-AB31-ECCB555735B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6BFD2A-4D53-4581-B939-9B185B3EDAC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D30DF4-2937-448A-8606-AD378D78FFF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DF01E5-4D4A-4F3D-BA91-842EFC440FF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2DAD3A-DFFB-491B-9640-758E6A478F3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6D0072-5BDD-449E-BC9A-C68C596F675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ED501F-39F9-4CC9-A271-83E4CDF6263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0B8F26-ADB9-4BDD-A6C4-D3AAD852A26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7D9830-7EF1-4DD6-B3FB-CCF75594329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BB255B-FA05-40E3-A2DB-F52F8BAA798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53B979-9A58-4058-87D6-E1F232A898A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AB3C7E-A6A7-4949-AD52-F8456CAE2C9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2CD46C-9F39-4AEB-8CBD-963763118EE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3A6522-8AA2-4473-8D6B-C89E5463490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2B4181-6352-422A-825C-9DAD16092EF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F1CC8E-6C3B-435D-BFAC-42B24AF6993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D2E6CF-9332-4A2D-A184-6B5C24873F6D}"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F207E3-F8C2-4F8E-915A-A4F693B3A278}"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FC18F5-DD8B-497C-989B-B12F518E9CF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C4B07F-14CF-42AB-9E0C-C54E3227D45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F8AF9CB-4215-4209-9F6B-373BD6D4847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CDA4D7-58E9-4C2A-8B52-00E58E2CEF3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011414-01A6-4F64-B9E1-59E1F70A023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1B10A3-0122-4EAC-911D-A7DD06FF5F3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EE7AAD-F866-4CA4-8869-038A32ACCBE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772661-8BCF-40FE-AC76-9CE214C0B029}"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9FDA22-3CE6-487E-B889-661314E19EA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94AECA-BD82-4E84-809E-A8265DBEB8F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8EC9FB-62A8-43DF-97CE-1A1A01C3035B}"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A665BE9-063D-477F-8714-9A870B15E3A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A32ED6-28B8-4A1E-B749-4C60E383EE26}"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961C9C-69CE-4CDC-96A9-F83B19B5D76B}"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89C176-283B-470E-99C2-DC034D63BEB7}"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AE6C99-698D-4995-8CC8-C07D413A3ECA}"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A4A480-1E9D-46AA-9A2E-1239EBDC61C2}"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D6CFDE-7F07-4B65-B91F-C1A02F97F6A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341A10-A808-4B1C-B37F-0B575C22808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AB91ED-4B4D-4C8B-AD39-D116127ED88B}"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0337D6-25C9-4F4C-85F5-6BC473214E8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EF4015-B7B4-4808-B00A-4073C0FF5209}"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1BC6A7-206A-4BFB-A047-95B8D1C0C621}"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EDB3CE-8590-4E2F-8002-769B7B92E5F3}"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3E111B-72EF-4073-B36A-D720DE166C2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07C834-A86C-44F6-88C6-2835D401320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70680AC-53A9-4143-BA0C-31AA6FE6E466}"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5DE5B2-D9B7-4B4E-A10D-41C443A3CD13}"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11517D-B7F7-4A01-AA99-68CCA659EF4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AC7CB2-010D-4B91-B206-29A7852CB06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7A1A24-E17B-4D89-A428-B5960A459ACB}"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F842D2-239C-451C-A193-B77B22BC7E4B}"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A9E2CA-A317-46EE-8B00-346E54BD863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AF5150-2A3E-4973-AE8E-5A71448259DD}"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52C100-E9A7-43E9-B241-A52486D35567}"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080D60-649F-4C53-B390-43AE247E4793}"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9A55D3-621B-4BCA-BAE7-1A8E98AD30F2}"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7ED79D-63B8-4FB5-AB6E-BA8CDDCCC96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61557C-65A0-4DF7-B9E2-8AED6A82A175}"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E810F0-581B-437E-B820-E5677E1B4F2E}"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