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48920"/>
        <c:axId val="50278398"/>
      </c:barChart>
      <c:catAx>
        <c:axId val="86448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78398"/>
        <c:crosses val="autoZero"/>
        <c:auto val="1"/>
        <c:lblAlgn val="ctr"/>
        <c:lblOffset val="100"/>
        <c:noMultiLvlLbl val="0"/>
      </c:catAx>
      <c:valAx>
        <c:axId val="50278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48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4B4-5B5C-4F95-83F6-86D843E2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00F-B61B-47B9-BAAF-E3F70555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2F4-2C88-41CA-B0F5-182CB6C4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2C2-5A93-43DC-873B-6B6D7AD1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B10-4C07-4248-8884-DD0E4567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1F8-A763-48BA-A2AA-C348EA22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0EE-60D4-44EA-9307-C671E29A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6FE-0941-42EE-A79D-88D34E73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F7D-F1CF-4ECA-8C76-1921C9A9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9E3-52CB-44A0-9204-2B4B8E67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E77-24D4-4C6D-A160-3BF4D5AC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366-A690-4D24-855B-1788D32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FF6F5-2747-4B6C-AC64-7DCF0D9BA6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