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41947"/>
        <c:axId val="81686795"/>
      </c:barChart>
      <c:catAx>
        <c:axId val="44441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6795"/>
        <c:crosses val="autoZero"/>
        <c:auto val="1"/>
        <c:lblAlgn val="ctr"/>
        <c:lblOffset val="100"/>
        <c:noMultiLvlLbl val="0"/>
      </c:catAx>
      <c:valAx>
        <c:axId val="81686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41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4D1-548D-4733-93E3-1FDD5EDA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88B-B16A-4D43-B9A4-520205E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0A7-F65D-4325-A9B6-450B5699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20C-ABD7-4B56-A1DB-7E7CEFD8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87A-44A0-4951-9EF4-C6F9F2D5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4D6-DAE6-4887-AB58-D3BDC7BB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045-3566-4D89-9251-409DA790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056-4031-4592-AE14-5EB498CF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0E6-01A0-478C-B2C5-B44E3C7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1CD-1288-491D-B472-ADA6534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127-2EB8-4560-A822-FDB00958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F63-B3F2-447C-9EF6-4B078E6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B6626-74AA-4858-9471-72246DF62B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