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99316"/>
        <c:axId val="19749898"/>
      </c:barChart>
      <c:catAx>
        <c:axId val="15699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49898"/>
        <c:crosses val="autoZero"/>
        <c:auto val="1"/>
        <c:lblAlgn val="ctr"/>
        <c:lblOffset val="100"/>
        <c:noMultiLvlLbl val="0"/>
      </c:catAx>
      <c:valAx>
        <c:axId val="19749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99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6B8-EA8F-47AD-A847-3EEF5572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318-4D2A-453A-8E55-0A3AAA4F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A9F-D56B-483A-A92B-EB700156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FC7-14B3-49AA-BDD2-DFF07D36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2CF-A42C-4AD5-A391-C4DA5BD4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EB9-45D3-4700-96DE-FB4C8E53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079-2B1E-4305-88C0-19460400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D23-1344-4D07-8D51-6EA4436D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7BC-256B-40EF-B575-0692C3AA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1B0-5797-43EF-A665-03877B8B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877-BAE8-410B-AF5B-95BA5F15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D28-749B-4796-8215-DA5A2D0C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38348-A1B5-4720-834E-1334333264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