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06813"/>
        <c:axId val="66602807"/>
      </c:barChart>
      <c:catAx>
        <c:axId val="69906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02807"/>
        <c:crosses val="autoZero"/>
        <c:auto val="1"/>
        <c:lblAlgn val="ctr"/>
        <c:lblOffset val="100"/>
        <c:noMultiLvlLbl val="0"/>
      </c:catAx>
      <c:valAx>
        <c:axId val="66602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06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67B-ACDE-4F33-A825-17205419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54F-AA69-487E-BB5C-6F707216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736-779E-468B-A5B2-A050EAB6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0F1-7CB7-4EBA-8C8D-1E38FAD1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8C8-EDD6-4D3E-A0A7-F4F8D37F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CFD-4160-4442-9A31-CE134370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666-96BA-413F-9AE2-0CFD313E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90B-419A-488F-9E1E-7F65B9EF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143-5908-44C3-97C6-BFDF0D83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CD7-3B91-47DA-9AC7-B9F7E65A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E75-6B20-47E9-886F-E332515A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AEB-F84A-4677-98B1-E1878D15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F29DC-9AC2-430A-A3DA-7BCC32C002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