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43821"/>
        <c:axId val="79307417"/>
      </c:barChart>
      <c:catAx>
        <c:axId val="47643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07417"/>
        <c:crosses val="autoZero"/>
        <c:auto val="1"/>
        <c:lblAlgn val="ctr"/>
        <c:lblOffset val="100"/>
        <c:noMultiLvlLbl val="0"/>
      </c:catAx>
      <c:valAx>
        <c:axId val="79307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43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698-0F36-44BE-B524-40099A8C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616-7330-4D7E-8B89-8119DA25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272-6A9E-4187-A1E8-4108252A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296-C349-4514-9F5B-715C01A7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FB7-B5D3-4816-80CC-5B06AB1E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C59-818A-49AB-A3F2-3A3F460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075-DD5E-4A73-91CC-99105B63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4E4-FCA9-4104-ABE0-E8D9CD9F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C77-131F-4C61-A45B-07594613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6E8-D905-4845-9BBD-3752B18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D0E-1738-4850-88F3-B347848B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710-0BFC-45BD-B6F7-981BFE23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65A02-517A-4C37-ABD1-CCC58F35C1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