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16759"/>
        <c:axId val="67457625"/>
      </c:barChart>
      <c:catAx>
        <c:axId val="94216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7625"/>
        <c:crosses val="autoZero"/>
        <c:auto val="1"/>
        <c:lblAlgn val="ctr"/>
        <c:lblOffset val="100"/>
        <c:noMultiLvlLbl val="0"/>
      </c:catAx>
      <c:valAx>
        <c:axId val="67457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16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810-5277-4755-8A3F-57C8CFBC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249-17C7-40B3-BAB4-1CA907D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833-F132-4887-8D93-FAE3BFAD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398-5BD7-4DA3-B3CD-EE6A0DDD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0B3-D46D-4808-B010-3D6D777A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A48-1AA6-4C73-A5DA-D9B973A9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E2F-1B7E-4127-9A27-A6490EBE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42B-F38D-4BD4-BC44-8BAD60CC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3CF-32C6-4D80-9D1D-BA3DDD7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4B2-7FA8-48FC-BD31-C962A7C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D62-24A8-439F-A6EE-DF96824E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117-127C-48EE-8D63-E14814E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A1D73-CB09-4D7E-96C3-B0DD37CF04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