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7441685"/>
        <c:axId val="90366895"/>
      </c:barChart>
      <c:catAx>
        <c:axId val="7744168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366895"/>
        <c:crosses val="autoZero"/>
        <c:auto val="1"/>
        <c:lblAlgn val="ctr"/>
        <c:lblOffset val="100"/>
        <c:noMultiLvlLbl val="0"/>
      </c:catAx>
      <c:valAx>
        <c:axId val="9036689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744168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CDA0C-3BA8-4EA9-BD74-3A74522CB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B3992-11AE-4579-BAF2-34CC4A041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E47E0-4330-45BE-9557-617D2CD03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A032B-3A17-4D4A-B4A7-2CE8AA56A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85806-BF6E-4F5D-8AB6-B1A73F07B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DAF9D-EDCA-44D4-84A6-08AC14869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808ED-F0E0-47C8-860A-71EACEE16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F1DA6-ECB4-465A-B472-88E175A55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A6A8F-7D1F-4A39-ADFF-691B6CA35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C47CE-CFA6-4D26-9695-ECC277644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6A72D-65E8-43C8-B5C7-A3636951F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43FE5-8FC9-47EC-AD8D-28FBABBAB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F7B951-0237-4B2E-A6AF-8EEC7B4ED8B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