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60764"/>
        <c:axId val="4083429"/>
      </c:barChart>
      <c:catAx>
        <c:axId val="54260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3429"/>
        <c:crosses val="autoZero"/>
        <c:auto val="1"/>
        <c:lblAlgn val="ctr"/>
        <c:lblOffset val="100"/>
        <c:noMultiLvlLbl val="0"/>
      </c:catAx>
      <c:valAx>
        <c:axId val="4083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60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76C-DE9C-46EF-A7A2-3655EE34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A15-CD08-418C-8A2C-9086B63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F52-35E1-47A6-B7EE-E760E53D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475-25A0-49AC-A9C2-AEFCEB4C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B7A-D322-4AF6-A916-29BCA500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935-DC0F-4727-9A37-B680E7F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AB3-E612-4C57-B5B7-C78617AB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EC4-12F3-4979-9ACB-180D61A1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65D-673A-40DF-9BA9-D7012B29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58B-6626-43FD-9EE8-E9285E3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512-D91B-40DF-A5A9-12841AE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016-816D-46F5-BFCD-1A435A2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0DB8E-20B3-4FE5-AF6C-8AB58720A3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