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92114"/>
        <c:axId val="88708110"/>
      </c:barChart>
      <c:catAx>
        <c:axId val="89092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08110"/>
        <c:crosses val="autoZero"/>
        <c:auto val="1"/>
        <c:lblAlgn val="ctr"/>
        <c:lblOffset val="100"/>
        <c:noMultiLvlLbl val="0"/>
      </c:catAx>
      <c:valAx>
        <c:axId val="887081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92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977-FDD9-47D5-98FA-A001176A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B71-3BE5-4807-B9B3-5CEA95DF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509-8AE6-4DD2-B466-DCDD3A8E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CFA-B7EA-4967-95E3-9533F368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1D3-7173-4B89-B90B-274341A8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E39-DFDA-43BD-BED0-08A7E1EC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492-8587-413B-82DD-4ECA63BC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840-0CE1-4D64-A1C5-683AA80D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FD5-5019-48AA-B7B1-5D755348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DE2-08EF-4010-A982-33A5F106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565-798B-4E6B-8BEE-3997BAC0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649-FD17-4F0C-933D-2A921383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851AA-CC10-41B8-AD47-00F7A19934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