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83523"/>
        <c:axId val="88351487"/>
      </c:barChart>
      <c:catAx>
        <c:axId val="929835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1487"/>
        <c:crosses val="autoZero"/>
        <c:auto val="1"/>
        <c:lblAlgn val="ctr"/>
        <c:lblOffset val="100"/>
        <c:noMultiLvlLbl val="0"/>
      </c:catAx>
      <c:valAx>
        <c:axId val="88351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835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AD46-587D-4C98-96EB-6496F23B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76FE-AF6A-4E17-9FB6-BB264B5D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C4A-ADD8-4CFE-85AA-5D106B35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F9D-75B2-44B4-B7D5-D80B21EE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6D4-52CB-4B87-8156-D4E9784E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21D-4A84-41C0-85E0-9D30B28A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100-1735-4D45-881A-9411DC05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DB4-E066-40F3-B8DA-88039DD4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23E-7DCA-4078-80AC-4B977B45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86F-B521-4AAC-B0FB-ADE190F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679-4249-4E89-96C0-F4F5E860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49BF-CA95-45D8-8204-99F4AFD7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0374D-BA3E-4DC9-B049-7CC86C726B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