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72913"/>
        <c:axId val="66735771"/>
      </c:barChart>
      <c:catAx>
        <c:axId val="67072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35771"/>
        <c:crosses val="autoZero"/>
        <c:auto val="1"/>
        <c:lblAlgn val="ctr"/>
        <c:lblOffset val="100"/>
        <c:noMultiLvlLbl val="0"/>
      </c:catAx>
      <c:valAx>
        <c:axId val="66735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72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68F-DF37-489B-81C8-6EB80F0C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40B-42B8-4AEB-B6DD-D3AF602D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C1E-D042-4189-ABC3-F0C369E3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BC9-3636-4638-A520-019E9A45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F98-7D11-4233-B658-A14D6332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026-55EF-49EA-8575-48DAF9EE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F8D-6690-433F-A9B1-90526C11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BB3-DCBE-45AD-B9BA-754557E2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86E-D8DF-42A7-829E-AAA721BE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39B-DDC9-427D-A818-4036349C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FD6-E717-424C-9562-2C4FBBC5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1D4-0D2C-4DDE-95DE-BBBBCEB1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A6718-332F-45DD-94ED-6DCE0BF919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