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35789"/>
        <c:axId val="27568986"/>
      </c:barChart>
      <c:catAx>
        <c:axId val="77435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68986"/>
        <c:crosses val="autoZero"/>
        <c:auto val="1"/>
        <c:lblAlgn val="ctr"/>
        <c:lblOffset val="100"/>
        <c:noMultiLvlLbl val="0"/>
      </c:catAx>
      <c:valAx>
        <c:axId val="27568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5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91F-43A1-4316-B8A8-DFD55D43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C59-AFF2-452F-BA0C-EAF1D0A8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B6D-A86E-41C4-927E-E13ABD03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3B6-A2EC-4256-9DFE-09455A82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C3C-7350-4B24-BBE7-9BEEA5EA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CA8-51D9-4033-988B-1C44CADD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63E-F239-4ED1-96F6-E581032B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71E-A5F2-4C4F-B043-34C14DB3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248-F3FC-4917-B219-41539998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C60-9FF1-48F0-BB0B-6C9478C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C44-D868-48C0-9375-39F0E71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53E-94F7-4AC4-AC58-0E3F8A4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ADBF2-E8DF-4037-BAFD-5F95C66B9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