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59076"/>
        <c:axId val="15595825"/>
      </c:barChart>
      <c:catAx>
        <c:axId val="16459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95825"/>
        <c:crosses val="autoZero"/>
        <c:auto val="1"/>
        <c:lblAlgn val="ctr"/>
        <c:lblOffset val="100"/>
        <c:noMultiLvlLbl val="0"/>
      </c:catAx>
      <c:valAx>
        <c:axId val="155958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59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01A-7737-42A7-BDBF-83625CBF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DEF6-9ED1-4895-9794-CCD273F2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7FA-9431-4C0B-9247-FF24B228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50D-2573-47FF-8BA3-4F762960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537-5A74-410C-9AA4-792911EF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010-4195-4A97-8411-C8D3A468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231-65B5-4C60-AB9A-238AAC39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704-56C7-4698-9AE7-3695D15A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92D-7DA7-4631-B2FA-C18B6CD2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780-39E8-4E77-96E2-C043CFB5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C3E-2146-45F7-B086-96E9F5C7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FA0-E5C6-4FDD-A9FE-4CA60FEA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9808F-6406-4AA2-A553-4012D294DD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