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21789"/>
        <c:axId val="87028221"/>
      </c:barChart>
      <c:catAx>
        <c:axId val="3262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8221"/>
        <c:crosses val="autoZero"/>
        <c:auto val="1"/>
        <c:lblAlgn val="ctr"/>
        <c:lblOffset val="100"/>
        <c:noMultiLvlLbl val="0"/>
      </c:catAx>
      <c:valAx>
        <c:axId val="87028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2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4E9-3E5C-4A89-A5D9-9793A854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B89-D26E-4924-9221-FCD0BE8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7AF-B894-4212-9697-242A4DAB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FA5-FD9C-4230-89E2-07C3E15D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1FC-A04D-44D7-9BF4-C7EA3326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875-683A-41FD-A46E-5341CD89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D60-E03B-40D6-ACF7-A6AF7DF2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6F7-0C9C-4390-B672-88A67AB2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C78-287F-40A7-9707-3FCD8928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CEE-7E1D-4CB0-8050-14669520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A33-AD5C-4024-935A-0572D2B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21E-EB99-47D7-ADA2-ED19053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F3314-CC9D-46E4-B43D-2162AEFC07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