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27625"/>
        <c:axId val="96782644"/>
      </c:barChart>
      <c:catAx>
        <c:axId val="84327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82644"/>
        <c:crosses val="autoZero"/>
        <c:auto val="1"/>
        <c:lblAlgn val="ctr"/>
        <c:lblOffset val="100"/>
        <c:noMultiLvlLbl val="0"/>
      </c:catAx>
      <c:valAx>
        <c:axId val="96782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27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A8F-85B5-4272-A6B5-5AEC1600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CFF-A5D2-4CF3-B2E8-4A24F47C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EE3-3115-484C-8793-DDB71C4F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976-B5C8-4952-8AB9-717B70FF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93E-417C-4D6A-AB5F-5FCCBCD0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CF5-D026-40CD-A73B-46E609B5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F77-7196-4889-B8CA-D99E9C7A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D17-C936-403C-A8B7-F4D2E559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CB8-21E1-45EB-AE8F-E4EF9AE0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387-F6D0-45C8-BB3B-24C2E28F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A3F-1852-4BDE-B5DD-6E7C4ECC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8D61-E2E0-4DF8-A426-6FB0BE64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6C7B4-F442-4532-830D-7A96D3BB94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