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91635"/>
        <c:axId val="68526986"/>
      </c:barChart>
      <c:catAx>
        <c:axId val="64091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26986"/>
        <c:crosses val="autoZero"/>
        <c:auto val="1"/>
        <c:lblAlgn val="ctr"/>
        <c:lblOffset val="100"/>
        <c:noMultiLvlLbl val="0"/>
      </c:catAx>
      <c:valAx>
        <c:axId val="68526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91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7A9-0FB9-4F21-9917-4A2C41B9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E22-3046-4734-8EFC-A216A294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7AB-D3A3-4725-8506-11C34159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004-6D69-42A7-9C22-C86A246D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A11-7E22-4996-8CC8-125E31E3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7BF-5AF7-4E77-931B-D7A2E05A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744-54CF-45EE-BDE4-CE9B64A9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573-900B-4291-8F34-A95F4F49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3C3-913F-4B9A-B281-0ED8167A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23F-5BEF-4FB5-9731-6D02A9A4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866-942A-4E24-8B31-E3939C0D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D35-4793-4142-A6AF-16DA45CD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CAD04-E7F8-44C0-9585-56398800A0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