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80170"/>
        <c:axId val="61536839"/>
      </c:barChart>
      <c:catAx>
        <c:axId val="25980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36839"/>
        <c:crosses val="autoZero"/>
        <c:auto val="1"/>
        <c:lblAlgn val="ctr"/>
        <c:lblOffset val="100"/>
        <c:noMultiLvlLbl val="0"/>
      </c:catAx>
      <c:valAx>
        <c:axId val="61536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80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4FA-9D0C-4659-8A32-B6AAA779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286-92AE-4642-A4CF-DD5F68C5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69F-521C-4278-8A2D-A6C3467A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E66-9B51-4C78-832D-789A40C8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7BF-B4A8-4FC2-80C8-8B43E1AB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2E8-58F2-4B21-9A57-AE5F1D4B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44D-9359-470C-BBA0-51853113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846-0B0A-4120-9AF3-FF91932A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D78-2ADE-4592-B8DA-C91280A7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7C6-9D8E-430C-960D-33AEFBD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42E-D0E5-47F9-9D10-9D25371D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F8A-8846-4C5E-A5EA-E9BC4C1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9706F-CE61-4717-8EBB-94AAE2E9AF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