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124081"/>
        <c:axId val="21925137"/>
      </c:barChart>
      <c:catAx>
        <c:axId val="671240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925137"/>
        <c:crosses val="autoZero"/>
        <c:auto val="1"/>
        <c:lblAlgn val="ctr"/>
        <c:lblOffset val="100"/>
        <c:noMultiLvlLbl val="0"/>
      </c:catAx>
      <c:valAx>
        <c:axId val="219251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1240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D26D-7387-48D7-AF5C-025F0CDA8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351B-489C-4A7D-9DCC-0A1B4A933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A5F3-CF08-4AB7-8A89-F330DA466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4B97-5660-4E6B-A0A1-57554B6AD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9AFD-7166-4139-AE5D-8E12F1DA8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840B-E3D7-43E4-A8EB-97CF74E8A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423E-34DC-409C-AB9F-F69F38ABC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1843-7BA4-49D4-8EE9-87EE8027C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BD1A-9613-4DE6-9ADE-1A3646765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A86C-E198-4477-AC47-523B9AF1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3E1E-5053-4F00-A469-2A063DDAF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9ECF-2594-4C5F-A286-60A5FAFF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B4BE81-5FD8-4A4A-A217-72066921AE9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